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92FC-1321-4751-B83F-EE39BBDF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7E5F-7F21-4A0A-8F14-3DC9DDDA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294A-59A6-4A0A-995D-8757CB48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CF6B0-26CB-400F-B3E7-494C11FD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C232-35DC-4484-A7EF-C4313C0A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9E63-1E40-4C42-AF40-A4A7494D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ED4E-4681-4C8F-A145-BFB75D42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8F7F-CF35-428E-ABA6-60E16E3F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5BFC-E0C1-4D25-8C05-CB81BE62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59C8-F60E-4835-AB91-C188E6F7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A5C4-9F49-4EC8-8DF8-8D7DCB7D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7EC8-CD36-4306-B2B3-A1956888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D148-7D83-491C-BA4E-5F72F2F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A8D2-CA94-4FD7-99A0-7B180B7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3D74-3B47-4083-81E0-C9DFE14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CA82-858C-4286-845C-1CFBD1D2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0143-CA09-4950-90AA-E949E57F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95E5-CE7E-4BC8-8D28-DFFA1763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78AE-1788-4B81-8C5A-16E47CEE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41D5-641E-41F4-8720-9525F5A4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E455-8064-4AB0-9A86-77DC5116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1B17-772E-42B2-A9C5-1632F812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2280-13E6-44F0-B057-32268B1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6150-81BB-4599-8610-5EB7DE3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6A5A-EF8F-4404-A135-5E3407CBD6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19A-C055-4B69-AF2E-EFDE261453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ir, We Would See Jesu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10, Lesson 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 12:18-4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pages 139-14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Widow’s Mite</a:t>
            </a:r>
            <a:br>
              <a:rPr sz="39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41-44; Luke 21: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 of gift is not determined by its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portance is the spirit in which it is 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ch gave out of their abun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dow gave out of her gener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not give grudgingly or out of neces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loves a cheerful g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39160" y="520200"/>
            <a:ext cx="688428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Sadducees Question Jesu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18-27; Matt. 22:23-33; Luke 20:27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dducees denied there was a resu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wrote about laws of marriage when death occurs to a husb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dducees posed a difficult situation and question 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: there were 7 brothers and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ok a wife and died without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ke manner, the 6 left no children and died and last of all the woman died al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39160" y="520200"/>
            <a:ext cx="688428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Sadducees Question Jesus</a:t>
            </a:r>
            <a:br>
              <a:rPr sz="3500"/>
            </a:b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18-27; Matt. 22:23-33; Luke 20:27-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stion: In the resurrection, whose wife does she become? For all 7 had her as a 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, ”You are mistaken, not knowing the Scriptures, nor the power of Go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will not be needed in hea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es showed in the burning bush passage that the dead are rai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not the God of the dead but the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dducees sil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cribe Questions Jesus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28-34; Matt. 22: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be or lawyer - one that is learned or skilled in the Law of M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ribe, tempting or trying Jesus asked, “Which is the great commandment in the Law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: put God first in heart, soul &amp; m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ontinued further: the second is liken unto it, you shall love thy neighbor as thy sel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Scribe Questions Jesus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28-34; Matt. 22: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Jesus didn’t say it was the greatest but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foremost ) great commandment and the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like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ummed up the entire Law of Commandments with these 2 pre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: the first 4 Commandments deal with our attitude toward God; the other 6 deal with our relationships to our fellow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Did the scribe change his inten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Jesus Poses A Question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 35-37; Matt. 22: 41-46; Luke 20: 41-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the Pharisees, “ What do you think of the Christ?  Whose Son is He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a fair question but couldn’t be explained without exposing their opposition to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quoted Psalm 110:1 where David reveals Christ to be his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denied the divinity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gument of Jesus - how could David recognize Jesus as His Lord if He was only his son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 To The Scribes &amp; Pharise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38-40; Matt. 23:1-39; Luke 20:45-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had answered the Pharisees, the Sadducees, and the Herod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delivered a scathing condemnation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disciples were present in the temple to learn about the attitude of thes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exposed their hypocris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do all their works to make sh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ove the chief seats in the synagogu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33480" indent="-47628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y love to have men call them rabb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e To The Scribes &amp; Pharise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12:38-40; Matt. 23:1-39; Luke 20:45-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poke directly to the scribes and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ght times in Matthew 23 Jesus pronounced woe upon the scribes and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woe means grief or dismay and is intended to mean great calamity is in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es are meant to show the inconsistency and hypocrisy of the scribes and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23:37-39 show that Jesus had compassion for his people even though they reject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Widow’s Mite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12:41-44; Luke 21: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watched those who were contributing to the treas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13 chests shaped like trumpets in which religious and benevolent contributions were pl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aw the rich put a lot of money in the ch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lso saw the poor widow put in 2 mites (small copper coins) worth about 1 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21:06:39Z</dcterms:created>
  <dc:creator>robert marshall</dc:creator>
  <dc:description/>
  <dc:language>en-US</dc:language>
  <cp:lastModifiedBy>Frank D Vines</cp:lastModifiedBy>
  <dcterms:modified xsi:type="dcterms:W3CDTF">2006-08-12T03:59:46Z</dcterms:modified>
  <cp:revision>11</cp:revision>
  <dc:subject/>
  <dc:title>Sir, We Would See Jesus</dc:title>
</cp:coreProperties>
</file>